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567778"/>
        <c:axId val="87368814"/>
      </c:barChart>
      <c:catAx>
        <c:axId val="425677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368814"/>
        <c:crosses val="autoZero"/>
        <c:auto val="1"/>
        <c:lblAlgn val="ctr"/>
        <c:lblOffset val="100"/>
        <c:noMultiLvlLbl val="0"/>
      </c:catAx>
      <c:valAx>
        <c:axId val="873688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5677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FF79-273B-4A6B-9977-B09D12009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11DB-0BE2-434A-B391-C8542694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1E1E-0EA3-4175-BB79-691CFBE65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886D-2A4D-493C-88C7-8C1E6369D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06E4-6889-4C76-A867-9CEB9016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125C-A185-4D2A-B91D-6E493532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0F0C-A503-4975-A401-AB5AE179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AB1C-336C-464C-8AF4-3B4F17CB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71ED-23CC-4D8B-B89E-2807F171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4354-7468-46E9-9F5E-2A5B5497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3D6B-8429-4D78-AC8C-9B7E4775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03E9-831D-4FDE-ABFE-E109A1BC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960D6-6A94-433C-93CB-B808AEE593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