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90507"/>
        <c:axId val="68995021"/>
      </c:barChart>
      <c:catAx>
        <c:axId val="50690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95021"/>
        <c:crosses val="autoZero"/>
        <c:auto val="1"/>
        <c:lblAlgn val="ctr"/>
        <c:lblOffset val="100"/>
        <c:noMultiLvlLbl val="0"/>
      </c:catAx>
      <c:valAx>
        <c:axId val="68995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90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B38-24D2-471B-A7A5-A4845A9E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668-3732-4462-832F-80417A67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72A-CFE1-49B4-9744-B5731F6C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797-DF6C-4D29-9B25-90376AC1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2F8-FD83-42D4-B814-9A2C6DE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FF8-C330-40E5-AFD0-F3F32FE2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23D-7983-4425-893F-2C36E9DB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B83-D459-4F59-AB30-CD18E2F1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3C2-45CE-45F7-8025-3C65C8EA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5D7-7521-4942-A2DF-05C5C08E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CDF-EBDC-492C-9B9E-FF3467A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ACF-E25A-4B8A-9131-F3DCEF0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2F026-5955-47A8-A793-5074F1BC22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