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60544"/>
        <c:axId val="99505739"/>
      </c:barChart>
      <c:catAx>
        <c:axId val="35460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05739"/>
        <c:crosses val="autoZero"/>
        <c:auto val="1"/>
        <c:lblAlgn val="ctr"/>
        <c:lblOffset val="100"/>
        <c:noMultiLvlLbl val="0"/>
      </c:catAx>
      <c:valAx>
        <c:axId val="99505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60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2C0-B4E4-4364-A849-C265040A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25C-9B6E-4164-8498-CDFB4E00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515-C22B-4489-9697-DD77D01A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622-5E15-4D85-96AF-02FAFF5C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945-51AD-4958-AD91-46066990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8FA-9602-4434-B7CA-B6E0F170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FFE-CF58-481D-B35A-4B99B0BB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32E-0811-479B-AA48-72CE49C5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A42-071D-41BA-B303-E146CD88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5BA-CC70-4569-BE92-A2050F55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CF2-EAF3-4368-AC4B-41BBCD7B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8A3-16AA-459F-979A-F2B9B83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505DF-0AF4-4B2E-A083-FE06374E6E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