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11957"/>
        <c:axId val="15674569"/>
      </c:barChart>
      <c:catAx>
        <c:axId val="60511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74569"/>
        <c:crosses val="autoZero"/>
        <c:auto val="1"/>
        <c:lblAlgn val="ctr"/>
        <c:lblOffset val="100"/>
        <c:noMultiLvlLbl val="0"/>
      </c:catAx>
      <c:valAx>
        <c:axId val="15674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1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231-3ABD-49CE-A6BE-32EC6BED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AF5-AE90-4E7E-972A-064C2D5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9DB-0947-4C19-A2B6-5344683C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661-1605-4E53-85F5-8CCF0652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E3A-CD57-453B-8D7E-F4F18A9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5A0-B827-4360-B56C-4F352F8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0DE-C561-40C2-9B2C-26DC8AD9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390-8060-4594-B071-EE049CB3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2ED-C079-4A32-A6A6-499123FD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2FC-A194-475B-97A9-34BA1725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AC6-040F-4594-97F0-56F6C3D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CAC-B448-4B51-A95B-5505177E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AE1CE-D0AB-4F64-BBE8-594AEDA79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