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78268"/>
        <c:axId val="6095159"/>
      </c:barChart>
      <c:catAx>
        <c:axId val="30378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159"/>
        <c:crosses val="autoZero"/>
        <c:auto val="1"/>
        <c:lblAlgn val="ctr"/>
        <c:lblOffset val="100"/>
        <c:noMultiLvlLbl val="0"/>
      </c:catAx>
      <c:valAx>
        <c:axId val="6095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78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9D2-59DF-44AF-896B-C218BD73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5BD-8088-452F-B19E-8EB4ADA3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9C4-B525-42D4-A902-683F9C9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DC3-7BDD-4CE9-975D-E2E0E1E6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1AF-3D57-406B-9E2D-7CA7DCD2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DFB-B322-4024-A32E-79911374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FE8-E8A0-483E-A079-2353DA81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083-F77B-4BFD-95E1-4D024E7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2F7-9245-4599-AAC7-0E43AFB2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06B-88BB-4352-8E90-2CE0B045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E40-28C9-474C-AD11-3331EC4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38D-D521-48F6-B6A2-3EAD8A0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27F0B-D939-409C-917C-C122B4A95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