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689226"/>
        <c:axId val="67373932"/>
      </c:barChart>
      <c:catAx>
        <c:axId val="876892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73932"/>
        <c:crosses val="autoZero"/>
        <c:auto val="1"/>
        <c:lblAlgn val="ctr"/>
        <c:lblOffset val="100"/>
        <c:noMultiLvlLbl val="0"/>
      </c:catAx>
      <c:valAx>
        <c:axId val="673739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6892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CE45-E03D-4F81-9430-97A9FF187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A6DF-FDCF-4A7C-9EF0-A2371A6B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2B74-F493-47E2-91ED-148AD7D3B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F4F4-113D-43B8-8FA7-71D6897C6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91F1-6885-4E08-B288-D3DEB69A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97BB-0201-446C-AA0F-407E1932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3B18-2E25-494B-936E-3C1E2ABC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C5D7-CAA2-41BC-93F5-5BF5E340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15FA-77E5-491B-9BB0-F44F9FD1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E6C6-F19E-496C-BADF-F510551F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0227-4B74-4E79-94AF-0A348831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5968-A05A-46CA-A88B-1DF1C872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EDF253-C014-43C8-B56A-5A65FC4A44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