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01856"/>
        <c:axId val="96348440"/>
      </c:barChart>
      <c:catAx>
        <c:axId val="51401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8440"/>
        <c:crosses val="autoZero"/>
        <c:auto val="1"/>
        <c:lblAlgn val="ctr"/>
        <c:lblOffset val="100"/>
        <c:noMultiLvlLbl val="0"/>
      </c:catAx>
      <c:valAx>
        <c:axId val="96348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01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7E8-E01B-4DF2-9D42-93751242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63B-70A3-4FDE-BE97-813D056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F63-7090-47FB-80F9-4D1B3F8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911-BD07-4AE9-B47E-C579DEDE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505-86F1-447B-8D24-81A41E72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3FA-D5EA-48CC-877B-CCC122F9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605-F2D2-4A63-88D1-277DEEC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E6A-CC0B-43D0-979A-DA714A4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30D-FA4E-4882-850D-D433922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ECE-3E33-4776-B37D-EB489D5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746-F427-4D3A-AABF-941FC1D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85A-2730-46BF-AB06-C7578C0A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63866-B380-4596-B70B-195D7E36A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