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42681"/>
        <c:axId val="96677163"/>
      </c:barChart>
      <c:catAx>
        <c:axId val="29042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77163"/>
        <c:crosses val="autoZero"/>
        <c:auto val="1"/>
        <c:lblAlgn val="ctr"/>
        <c:lblOffset val="100"/>
        <c:noMultiLvlLbl val="0"/>
      </c:catAx>
      <c:valAx>
        <c:axId val="96677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42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D80-69D0-4802-8FD2-BDFD9A71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A4B-2C7C-41EE-ABE0-13C24F3E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B26-E60A-48F7-A442-E7D24F69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BB7-5F96-4EFD-BD05-561DB68B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9B8-AA68-4356-9553-FE4E2CB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33F-90F1-42F8-A4E4-3C072631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864-B6F8-4600-B09D-F02070F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814-2014-43EA-8E20-0F6604CC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B6C-0108-472A-B429-70D2A39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A71-F1FF-423C-9589-B1A8A07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90E-0451-4DC6-AEA2-79B5CAC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A85-A93F-4028-BAB6-F78EAC4A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383E7-B509-4969-82C9-968422DAA1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