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552795"/>
        <c:axId val="61424015"/>
      </c:barChart>
      <c:catAx>
        <c:axId val="835527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24015"/>
        <c:crosses val="autoZero"/>
        <c:auto val="1"/>
        <c:lblAlgn val="ctr"/>
        <c:lblOffset val="100"/>
        <c:noMultiLvlLbl val="0"/>
      </c:catAx>
      <c:valAx>
        <c:axId val="614240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527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144D-C560-4E27-BF3A-1E7E8B6FE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4A59-8566-4F87-8DA1-6363B470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CF43-3EF1-467E-B806-038C2431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7E11-11BC-4935-8074-A331E1ACE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F901-671F-4708-B22A-2B7B3A2C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28EF-C8F2-439D-AD95-CB9A4B64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2195-228E-4693-ABC7-AF5DEFDD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F3D7-2F70-4018-9D65-30BD4534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3F37-EFA7-4839-BC86-7CC1E1AA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1804-446C-4EBA-9881-8B54A0CA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F771-37F6-47EB-9FFC-E5B667CE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AE9B-E173-44A2-A6D0-2FAA7439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C2C4B-7D26-47D5-A4B4-D776E059D9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