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94558"/>
        <c:axId val="41592186"/>
      </c:barChart>
      <c:catAx>
        <c:axId val="96094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2186"/>
        <c:crosses val="autoZero"/>
        <c:auto val="1"/>
        <c:lblAlgn val="ctr"/>
        <c:lblOffset val="100"/>
        <c:noMultiLvlLbl val="0"/>
      </c:catAx>
      <c:valAx>
        <c:axId val="41592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4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F2A-328F-4187-BF2B-9FEE52DD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5BF-767A-45F0-9878-BF1C361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F48-F2D8-4A33-8A97-D719986D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186-18FB-4D39-861F-E6162772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588-53CE-4283-A63A-1C9202A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6EF-98A5-4264-A29A-A9039B2F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DD4-4F36-461E-8373-A4CE7DA4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82C-0E47-471E-AFFE-FCB1A8C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B0D-EC74-45F6-9942-18566C51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202-3D8E-4158-8B91-1FC46AD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3B8-EA53-4BC5-B0E0-86BB578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7C8-7FA6-43FA-B7A0-9232F4C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29EC2-1370-4213-87FF-8C7058386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