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26313"/>
        <c:axId val="18652694"/>
      </c:barChart>
      <c:catAx>
        <c:axId val="92126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52694"/>
        <c:crosses val="autoZero"/>
        <c:auto val="1"/>
        <c:lblAlgn val="ctr"/>
        <c:lblOffset val="100"/>
        <c:noMultiLvlLbl val="0"/>
      </c:catAx>
      <c:valAx>
        <c:axId val="1865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6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030-1A62-47E1-8C3D-F53159CA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D02-D579-4DAA-BEDF-BF00C77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0D2-B7AF-49C0-9199-5896DF49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5DD-238F-455F-B3ED-4C1BBAF3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D84-DE7D-4948-8704-CDF6C03F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855-90CA-440B-A3BE-8EE33ED3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3C3-B794-4550-A721-F398270D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EF9-BDA1-4133-BF93-5D826709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A92-C41E-4283-82E2-B502358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06A-906C-4176-A226-EF10D7B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37D-517F-4B8C-805A-FD96AAD2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478-C2DA-4AFC-A3F8-4A1818B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E32B8-ABFC-4140-870E-3A0010378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