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14317"/>
        <c:axId val="81143860"/>
      </c:barChart>
      <c:catAx>
        <c:axId val="42414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43860"/>
        <c:crosses val="autoZero"/>
        <c:auto val="1"/>
        <c:lblAlgn val="ctr"/>
        <c:lblOffset val="100"/>
        <c:noMultiLvlLbl val="0"/>
      </c:catAx>
      <c:valAx>
        <c:axId val="81143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14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D52-1C0D-478D-9FD2-7928A3CB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DB3-788E-4024-9D98-A0BBF86F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49E-51A8-4EF6-BE9E-7C7F12A3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7F8-9A2E-4DDD-8AF9-3E66581C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988-68D6-4282-93D9-B5A92A16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7B0-7838-4B9F-8A98-C4105183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CE5-52AD-4FD0-9958-6C2AD73B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1B6-BBDD-41B5-99E0-0C59A267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626-DE1B-4273-8EB1-A1914B23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814-DC04-4EB0-A2FA-018D263B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331-DD8C-4C6C-9DD3-34DC5543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397-A069-4BD4-BA1C-EA255E9B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065A8-20B8-446C-B18E-FB5B807F01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