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95693"/>
        <c:axId val="99324807"/>
      </c:barChart>
      <c:catAx>
        <c:axId val="42995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24807"/>
        <c:crosses val="autoZero"/>
        <c:auto val="1"/>
        <c:lblAlgn val="ctr"/>
        <c:lblOffset val="100"/>
        <c:noMultiLvlLbl val="0"/>
      </c:catAx>
      <c:valAx>
        <c:axId val="99324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95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F1C-0DF4-42AD-8B39-050CD1A6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56F-5FE7-46E9-B3B6-B60E7396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AB6-6853-4084-A8C9-F59F7483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76C-6ACF-4C57-9853-0D77DFC9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BEE-DE56-4918-A4D1-0442D0DD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EF1-857D-41FD-B0CD-BE054CA8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758-5120-44AE-9432-8605A08C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193-E604-4EC5-A5E4-59AFAAD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921-36F5-4864-BCF6-1FA1437A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5FF-86FC-4925-8FEE-7522C99C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9DD-7B1C-4BFF-9F77-D1843FA3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062-ED6C-450F-8053-DB0BF880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1F3F7-7347-4516-BC39-B7E44B6108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