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539565"/>
        <c:axId val="34752751"/>
      </c:barChart>
      <c:catAx>
        <c:axId val="315395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52751"/>
        <c:crosses val="autoZero"/>
        <c:auto val="1"/>
        <c:lblAlgn val="ctr"/>
        <c:lblOffset val="100"/>
        <c:noMultiLvlLbl val="0"/>
      </c:catAx>
      <c:valAx>
        <c:axId val="347527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395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7998-93E4-4D59-BF90-2CDACAD3C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DBE5-8EC7-43AE-A3E1-BB007ACE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A345-BB43-48CB-BBB5-66CB13A72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028D-0B30-48DB-A05F-007D849E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F47D-754C-432A-8D17-45459416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B640-15EB-4F6E-811B-24D5E1A3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5528-03BE-483D-84DE-8514A2AF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A36F-3024-43B7-9BD3-6F6BB1DC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AD90-F2D5-4FA0-BD5A-DDD7A65F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A7DF-F9F8-4D90-8978-4C129241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137E-9194-4F6A-B0A6-0FECD2B6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C80E-B0BE-4721-BD0B-B4FC0791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2D2D3-EE75-4190-9CAE-AC7863A0E7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