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34887"/>
        <c:axId val="7614146"/>
      </c:barChart>
      <c:catAx>
        <c:axId val="23634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4146"/>
        <c:crosses val="autoZero"/>
        <c:auto val="1"/>
        <c:lblAlgn val="ctr"/>
        <c:lblOffset val="100"/>
        <c:noMultiLvlLbl val="0"/>
      </c:catAx>
      <c:valAx>
        <c:axId val="7614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34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DD0-564C-4EA9-84BE-E7470C70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F8C-DE6E-498C-A022-311EF4D5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8EA-1881-46B7-A804-75EB9CD6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CAD-33F7-4C5A-B827-7B695212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75B2-81A5-4672-B7C8-E06BB6DC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93C-60E4-42D4-B31F-5B9AE350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ACA-1845-4323-A66E-85591CA3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2E4-36BE-4D56-A4AC-2AD86696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24D-0DC0-4DEB-A223-1A41DFCE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915-CD0C-472F-A05A-303839C5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1EB-EEEA-46EB-90F3-69E1B1E5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202-0481-443E-A956-A476A309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8661C-3D89-47CF-83F2-70B808C35B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