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67654"/>
        <c:axId val="98771323"/>
      </c:barChart>
      <c:catAx>
        <c:axId val="70467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71323"/>
        <c:crosses val="autoZero"/>
        <c:auto val="1"/>
        <c:lblAlgn val="ctr"/>
        <c:lblOffset val="100"/>
        <c:noMultiLvlLbl val="0"/>
      </c:catAx>
      <c:valAx>
        <c:axId val="98771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67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A03-D2F3-48AA-98F5-3F50E85E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352-1ABA-496F-8444-931DEB80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337-13B9-4D2D-8CE5-825D9D6F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13F3-958C-49BA-B103-1680EFAA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33D-665F-401F-9D4D-AB13149C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4D49-DE66-4CF8-934D-17D02671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B3F-A562-48D8-87EF-ED6CCA9F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A939-EF1A-4BD4-8699-40BE45B3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FA2A-79BF-46A6-996D-725B5EB8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EBEC-2FAF-4FE0-A1AC-15906894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5F3-58C2-4261-B1D3-6EAE6AF9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E06A-7EB4-4EC4-BD0F-A4F50227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E397D-14A2-4386-90CE-C3B7165E3B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