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43312"/>
        <c:axId val="9492715"/>
      </c:barChart>
      <c:catAx>
        <c:axId val="925433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92715"/>
        <c:crosses val="autoZero"/>
        <c:auto val="1"/>
        <c:lblAlgn val="ctr"/>
        <c:lblOffset val="100"/>
        <c:noMultiLvlLbl val="0"/>
      </c:catAx>
      <c:valAx>
        <c:axId val="949271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433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227D-910F-4421-9DB0-E70FF780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8394E-FA5B-4895-8722-340F0FF99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DB19-F288-47D2-84BA-6A0037122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C6CE-169C-49C1-ABBB-36B1E5331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2FF2-7EC3-4176-A546-21A7E8F3F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79D-A922-4E73-9EDB-0A932A236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3752C-F9F1-4287-9A9F-A3F651D4B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35EE-B63A-4090-A484-3A66B94B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5BE6-66BD-4EC8-8CA6-E727BB2E2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6A64-F8DD-4528-AD78-7A0E195B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568A-44B8-4D4C-9834-AE23FBD6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F041-3EF8-4F04-A2E1-B0DF287B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DEF411-CFA3-447E-8B6F-ADE47B9CD09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