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78949"/>
        <c:axId val="30155051"/>
      </c:barChart>
      <c:catAx>
        <c:axId val="47678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55051"/>
        <c:crosses val="autoZero"/>
        <c:auto val="1"/>
        <c:lblAlgn val="ctr"/>
        <c:lblOffset val="100"/>
        <c:noMultiLvlLbl val="0"/>
      </c:catAx>
      <c:valAx>
        <c:axId val="30155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8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23A-0B61-4231-90A0-B2376C8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192-AC2D-4087-9D1B-37394F06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9A7-6171-4776-A920-6E17C776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7E8-7246-4C5F-90A4-E4E56E42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8BD-4AB0-44B5-9DC8-B5B382DD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8ED-6B32-43C6-867C-037B2D6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A6-C834-4DBE-97B2-B258D1F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5A7-75AF-43A3-9532-A8E1C93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F56-AC35-4191-84B1-D6FCAA4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DCE-B973-4E21-BA96-EFD8344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696-BD61-49EC-BE36-7D54545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186-8552-42FC-8AF1-8969BEB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A8CA0-231C-4806-A7C6-C0C45E7D6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