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649468"/>
        <c:axId val="18786034"/>
      </c:barChart>
      <c:catAx>
        <c:axId val="436494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786034"/>
        <c:crosses val="autoZero"/>
        <c:auto val="1"/>
        <c:lblAlgn val="ctr"/>
        <c:lblOffset val="100"/>
        <c:noMultiLvlLbl val="0"/>
      </c:catAx>
      <c:valAx>
        <c:axId val="187860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6494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5D97-142B-4198-912A-B390C9236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E658-DAC7-428C-916D-825B7575E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570A-6F48-488F-8A67-3B4BF7008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9411-D1C0-42E9-90E3-A8A7FDC6A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09B4-87C1-4A5C-AA64-22F8D7412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B62F-D409-4E29-A683-54540B086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5C4F-A8DF-4F04-9245-6640D8F47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E48F-B396-400C-987C-FA1D4C441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7EAC-709F-4B31-9EEA-0CEF0758C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9AF1-67F9-411E-8C40-4BB7FA22D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BA70-8B59-42F7-AD21-2B33EC2A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18EF-6DF3-4EE6-A1BE-446E9A7E5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A735B3-5865-40E0-8BB7-F1343F69C50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