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8874"/>
        <c:axId val="78094410"/>
      </c:barChart>
      <c:catAx>
        <c:axId val="4448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94410"/>
        <c:crosses val="autoZero"/>
        <c:auto val="1"/>
        <c:lblAlgn val="ctr"/>
        <c:lblOffset val="100"/>
        <c:noMultiLvlLbl val="0"/>
      </c:catAx>
      <c:valAx>
        <c:axId val="78094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8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1E0-E5F2-4495-9F8A-36644AC7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D76-DB9E-4017-AB33-4470CB03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96F-4989-4F8C-BBFC-6A1289EA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A91-A17C-4AE9-8714-4D559291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F45-336B-42F5-B2E7-750FF755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249-9E5D-4B2B-AC14-1F442A9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816-4985-4280-9225-4AEB90C2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EC5-9777-4244-9652-9F61793A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790-8BC8-4828-8AA0-B9270D8F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812-674C-4366-9BC6-DE06EF1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D64-B422-4D1C-9C05-013DB2F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4FA-E21C-4C42-97C2-A7638CC5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1EF66-8EB0-4C65-9895-BE89DE5378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