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216247"/>
        <c:axId val="62496984"/>
      </c:barChart>
      <c:catAx>
        <c:axId val="352162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96984"/>
        <c:crosses val="autoZero"/>
        <c:auto val="1"/>
        <c:lblAlgn val="ctr"/>
        <c:lblOffset val="100"/>
        <c:noMultiLvlLbl val="0"/>
      </c:catAx>
      <c:valAx>
        <c:axId val="624969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162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FA39-5DA7-42AB-9DD7-014EC92C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7AE2-6D8F-4C50-9962-EFD5CD71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04F4-7DBC-4A54-AC20-42FF121D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BC21-3A1A-49D5-9C47-131DEC5B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5C0A-F447-45D6-A89E-0DEE047D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F18E-70EF-4C65-90E4-928BA329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9EF5-3B05-49C2-A5B7-EBE18641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4407-C830-46D3-A7FA-5F4EE78F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5757-3FD3-4D0F-BB79-FA08FAD6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51DC-86D9-488E-9208-B5E7CE85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494D-5ED0-4D6B-8B01-2831E98C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A62D-9D95-4C36-B492-0AFE19EE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D70F4-1989-4030-B238-3B5F1D6A66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