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84065"/>
        <c:axId val="75392172"/>
      </c:barChart>
      <c:catAx>
        <c:axId val="57840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92172"/>
        <c:crosses val="autoZero"/>
        <c:auto val="1"/>
        <c:lblAlgn val="ctr"/>
        <c:lblOffset val="100"/>
        <c:noMultiLvlLbl val="0"/>
      </c:catAx>
      <c:valAx>
        <c:axId val="753921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840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6EE2-746E-4CF6-838F-261209F3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E0E0-4547-427D-B0D1-D837FA0A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233D-BE68-4BCB-A458-3E737AE30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38DF-2AE8-4CCD-BBB4-F47B6B56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B48F-45EA-464A-B2CF-E76C9C26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1C11-582E-4C33-8D7D-173A1D6C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A844-79C1-4D30-83D1-04807C42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9267-FEF5-4EAB-9D99-AB71B874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F6C9-0B07-41E7-9223-2EA038C7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0EA6-A33D-4731-808F-5FC7054B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4DC0-1615-407D-A96A-0BD505C5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F9F5-0BDC-47B0-80AC-199A3907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E31C4-A0C5-48CA-BB75-FC26B7D154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