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1493"/>
        <c:axId val="79347292"/>
      </c:barChart>
      <c:catAx>
        <c:axId val="3071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47292"/>
        <c:crosses val="autoZero"/>
        <c:auto val="1"/>
        <c:lblAlgn val="ctr"/>
        <c:lblOffset val="100"/>
        <c:noMultiLvlLbl val="0"/>
      </c:catAx>
      <c:valAx>
        <c:axId val="79347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1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7DF-706B-47DA-9215-945554F1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E0A-0995-4B25-9BA6-765872A9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1FD-7452-4AD0-B9DA-B9B9FF5F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5AB-1313-4E37-9C87-8EC69D40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BBA-2947-4D76-844A-FFF5B938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2F7-1F2B-494D-968B-21A0F88A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524-2DC9-46E4-A6DF-E349B3CA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C32-FCE0-4FFF-8DFC-B96EBAF7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17E-7961-4995-B538-9E4C4B56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918-1819-46C2-BCD4-E886B8D7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F792-1160-4AE2-916E-34697ADF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E9C-B9E7-4775-9927-89F7B57B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0B577-5FDC-42CB-A351-8BB473E09E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