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11783"/>
        <c:axId val="11095289"/>
      </c:barChart>
      <c:catAx>
        <c:axId val="34811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95289"/>
        <c:crosses val="autoZero"/>
        <c:auto val="1"/>
        <c:lblAlgn val="ctr"/>
        <c:lblOffset val="100"/>
        <c:noMultiLvlLbl val="0"/>
      </c:catAx>
      <c:valAx>
        <c:axId val="110952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11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421F-226A-4F7E-BEF8-05246CEB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FAA3-FC24-4CC1-8825-E98DEDC7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3AD-02A1-4399-B71A-D2203D34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A3BF-CDD6-4F46-92FF-F37A25D7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4CF-3304-442C-BE5C-6CDEC6FB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EE9C-5072-41F1-B22A-95E9F23D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71A-C454-4FD2-914B-4E54B4BF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8C5-BDF0-4811-90F2-2770BC37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2EC5-7014-4564-9CFF-7FBE30CD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31A-99E5-4955-A820-0B5F5A9D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FE1-0917-40D1-9AAF-34C8336B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F89B-395C-4E88-862A-C3719BB4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E7BB7-0C7E-4463-A8F7-4C91BD2529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