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13220"/>
        <c:axId val="52128246"/>
      </c:barChart>
      <c:catAx>
        <c:axId val="99113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8246"/>
        <c:crosses val="autoZero"/>
        <c:auto val="1"/>
        <c:lblAlgn val="ctr"/>
        <c:lblOffset val="100"/>
        <c:noMultiLvlLbl val="0"/>
      </c:catAx>
      <c:valAx>
        <c:axId val="5212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3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025-CA1D-42F5-99D1-E50F875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220-7807-489D-B847-35A7E76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E2D-B735-46FD-AC59-717E4501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030-9C02-4B2E-B4B6-338030E9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735-B8DA-4286-B2BB-5FE47FE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B6A-8ED7-44C6-A05F-EB75E09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5C6-AF42-4897-8BCE-1BDDCB8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D29-ADC6-408C-8041-BB3909FE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F10-E1FD-4CC1-83D6-2CAABFD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B5C-9259-43D0-BA15-DFDBDBB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30C-3F35-4EAA-B810-83224D7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787-1B6F-4086-BE34-46BA83B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F4BE0-7973-4AC5-9999-64CB76747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