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36522"/>
        <c:axId val="17867289"/>
      </c:barChart>
      <c:catAx>
        <c:axId val="16236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67289"/>
        <c:crosses val="autoZero"/>
        <c:auto val="1"/>
        <c:lblAlgn val="ctr"/>
        <c:lblOffset val="100"/>
        <c:noMultiLvlLbl val="0"/>
      </c:catAx>
      <c:valAx>
        <c:axId val="17867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36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26B-AACE-4E1C-ACE0-BBB8BF65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8B0-B57F-4868-8364-0299FD68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D60-6DE7-44F1-BA82-DDE19583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8B4-592D-465C-B64C-E91B649E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254-0D1C-4170-9E24-B92BB816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F85-43C7-45D3-AB77-5EE08568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961-98AD-48EB-9BC9-AC63A7DC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A6F-998A-4DDA-807F-7C899103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D14-6731-435B-BC46-BA932C76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EBA-EFA1-4097-9BAE-323B3154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BDE-3709-4A48-8BF2-6EBE3FD7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5D1-BC63-46A7-9927-4215666E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B497B-9700-4840-8B6A-ED590E73C4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