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18026"/>
        <c:axId val="70732222"/>
      </c:barChart>
      <c:catAx>
        <c:axId val="39418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32222"/>
        <c:crosses val="autoZero"/>
        <c:auto val="1"/>
        <c:lblAlgn val="ctr"/>
        <c:lblOffset val="100"/>
        <c:noMultiLvlLbl val="0"/>
      </c:catAx>
      <c:valAx>
        <c:axId val="70732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18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BD9-4925-41A5-92CB-16ABC281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7F0-2378-4B2B-9CBB-95BD9DBA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85D-8BCD-4BD7-9758-B6A99CE4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9687-FBC6-415C-9781-FBC48341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DA0-97B9-4193-A553-09AAF847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D162-8BAF-40F4-863F-BA69B10B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47E-2E6F-40EC-B237-D12D58B2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5B2E-2921-4131-8F1C-442BBC43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CCD-FDB7-4F54-AF23-8B0825FA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C79-628B-48F1-9344-DD5648BA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E00-012C-43F6-8FB6-C49E1137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003-60EB-4607-8112-5814E41A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3A94E-13FB-4F93-BC51-47A33500A3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