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60874"/>
        <c:axId val="27745499"/>
      </c:barChart>
      <c:catAx>
        <c:axId val="80360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45499"/>
        <c:crosses val="autoZero"/>
        <c:auto val="1"/>
        <c:lblAlgn val="ctr"/>
        <c:lblOffset val="100"/>
        <c:noMultiLvlLbl val="0"/>
      </c:catAx>
      <c:valAx>
        <c:axId val="27745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60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50C-FF71-49EC-B7DA-41C6C0F6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189-1DD8-4DF6-92F8-7E856D66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D6D-C134-4504-BE82-A6A78D96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391-8ECC-4470-A1FC-A683AEA2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008-D328-4F56-9356-EFA9ECC7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C72-8BD4-4A61-B3D4-F02C21E9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E02-2F4D-438D-8167-D52E4BCF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365-5041-425B-975D-225AD9F2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893-B6EA-48D5-A97B-8A0A91CB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F65-73EE-458C-8B4E-823AD27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8E2-7CEB-4EC3-A7B6-5ABD835E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6BC-6DD0-455F-95FE-6AAFDE7A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5B0F6-5712-4C21-8837-6933A6ADCC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