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10205"/>
        <c:axId val="92533067"/>
      </c:barChart>
      <c:catAx>
        <c:axId val="9671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3067"/>
        <c:crosses val="autoZero"/>
        <c:auto val="1"/>
        <c:lblAlgn val="ctr"/>
        <c:lblOffset val="100"/>
        <c:noMultiLvlLbl val="0"/>
      </c:catAx>
      <c:valAx>
        <c:axId val="92533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C59-CB02-4FB5-8D00-0203E7F6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FDD-71F6-4376-A637-AC0A15C6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3CD-AE68-4BBE-BDE2-8C59A158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864-32E7-4756-8340-4921CE41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DDD-3350-4657-9F92-53FE57A8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268-A110-4631-B71A-36CDE892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8A1-533E-4802-86E2-F03130E3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331-6A4E-4110-A3AD-B0D7AE8D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471-AA02-4688-B070-0D0DDFED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A2D-98DB-4B84-99E8-63021EC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070-D405-465E-9A9A-337048B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EAC-3288-48EE-A98C-A2760A7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E570B-D7BC-4267-B92B-8906F4473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