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703056"/>
        <c:axId val="40446027"/>
      </c:barChart>
      <c:catAx>
        <c:axId val="45703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46027"/>
        <c:crosses val="autoZero"/>
        <c:auto val="1"/>
        <c:lblAlgn val="ctr"/>
        <c:lblOffset val="100"/>
        <c:noMultiLvlLbl val="0"/>
      </c:catAx>
      <c:valAx>
        <c:axId val="40446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03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B701-0A4B-4DF7-95A2-B74CC207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4F9B-29B0-4553-83E4-0578BCC9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59E-89A8-4FA0-B847-91AF9E64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805-8568-4BBB-8DB9-7EA2F758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E48-AC75-4E6C-8BEA-10FD3C5C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8FF-5ED2-4A79-B652-48B13F8F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83C3-7358-4415-B670-C62F804A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C62-F969-4ADE-A736-C89E0C97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360-8C66-45E4-AFEF-3181ABD5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CE2-02D7-4E6C-821C-010AAE03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960-F3E1-4DF5-89C8-3B99E2A1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ECF-6DF0-4464-BEF7-1F4D62CC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E24C6-A26E-44EB-93B7-7AA0F675B4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