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38425"/>
        <c:axId val="19561287"/>
      </c:barChart>
      <c:catAx>
        <c:axId val="38338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1287"/>
        <c:crosses val="autoZero"/>
        <c:auto val="1"/>
        <c:lblAlgn val="ctr"/>
        <c:lblOffset val="100"/>
        <c:noMultiLvlLbl val="0"/>
      </c:catAx>
      <c:valAx>
        <c:axId val="19561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38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E40-2DE6-4C6A-BFFF-996BD858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B30-91F9-43B8-9B0B-3567620C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272-1105-4BB3-99A9-447BF7B3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3C4-D141-43FC-A9EE-09ABC5B9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4D8-37FD-4B34-980C-E62C79C3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22E-FE77-4A32-8A3D-EE9D71C5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0FD-8A2A-4750-A259-DD1EE313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E1C-8705-4D58-A887-D0E6AD96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B07-BF60-4F95-94BF-8E36E94C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D4A-1F88-49AB-B372-838B5EC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B36-D2A3-411B-AE3F-BC9B3C5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494-8C89-44C0-9F12-3472BC49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6FA3E-EF52-4B11-A867-25CF26EC13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