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56308"/>
        <c:axId val="32578747"/>
      </c:barChart>
      <c:catAx>
        <c:axId val="16956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78747"/>
        <c:crosses val="autoZero"/>
        <c:auto val="1"/>
        <c:lblAlgn val="ctr"/>
        <c:lblOffset val="100"/>
        <c:noMultiLvlLbl val="0"/>
      </c:catAx>
      <c:valAx>
        <c:axId val="32578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56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2FF-1AB9-41EC-976F-9BE3B29E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85F-E740-4269-B96F-DF4B4616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3D6-918F-4529-87E0-4655E6E9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823-EA06-418E-8376-DD316216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5A0-2FC9-4D7D-8A57-DF39C47D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8F4-BB79-4814-A049-B868B384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52B-15CB-4CCE-B39A-D198EC3A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589-2A3D-41BB-8701-B2CEFD51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590-C7E2-424C-9481-8D26E6C0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35D-213F-45DE-B81E-82E43AF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595-8660-4641-B529-8B871A91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651-F8A3-4AE8-B16F-75B2C8B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209EF-176C-467D-8731-46EE7172E2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