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56431"/>
        <c:axId val="38425263"/>
      </c:barChart>
      <c:catAx>
        <c:axId val="64756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25263"/>
        <c:crosses val="autoZero"/>
        <c:auto val="1"/>
        <c:lblAlgn val="ctr"/>
        <c:lblOffset val="100"/>
        <c:noMultiLvlLbl val="0"/>
      </c:catAx>
      <c:valAx>
        <c:axId val="38425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6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A9C-CE62-40CA-9D70-188AE583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172-7DFE-44DA-89E1-AD0DAB3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4EB-17C1-40AA-BD9E-832F094C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DBF-08D3-4F8B-9471-4958C0CF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225-5B1B-4E93-8EA2-2E68B988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65B-968C-4BCF-8CE9-22CE3D61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D72-6382-4186-9A18-2D6F01F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745-FD08-430A-B6E9-A7FB886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D37-F630-4937-B6F0-AD8DDA1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2F9-D68A-4DF1-9D7C-B360AB14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767-49F4-4B86-815F-5D6856DD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049-5B6D-4669-9B25-98CD539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8A4CA-39FB-4925-817B-1D7ED34A5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