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856239"/>
        <c:axId val="80047192"/>
      </c:barChart>
      <c:catAx>
        <c:axId val="878562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047192"/>
        <c:crosses val="autoZero"/>
        <c:auto val="1"/>
        <c:lblAlgn val="ctr"/>
        <c:lblOffset val="100"/>
        <c:noMultiLvlLbl val="0"/>
      </c:catAx>
      <c:valAx>
        <c:axId val="800471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8562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4638-4DDB-4A7F-BA71-3784FA5B4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B676-A09E-4F8B-ABCA-42237216C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3197-C2C0-4C44-B39A-5C0D51A74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223D-5C9C-44C7-BBD5-21C213B3E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1590-9551-4112-9720-A2C965180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1B89-8C91-4BD8-A522-56C2CA282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ABA5-5581-4216-A497-69C426138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2DD0-2E4E-4F18-8688-FD9C88C98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2B87-44C2-4DF9-8E58-C4CEE579A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71C8-5A6A-4FD8-ABCF-17E5D498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A263-1AC9-44E8-B84A-09ED017E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3063-118A-4A67-BC77-CF9E1076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B94C60-EF4D-432A-BF97-CCD81EB4D7A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