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85336"/>
        <c:axId val="41008312"/>
      </c:barChart>
      <c:catAx>
        <c:axId val="54985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08312"/>
        <c:crosses val="autoZero"/>
        <c:auto val="1"/>
        <c:lblAlgn val="ctr"/>
        <c:lblOffset val="100"/>
        <c:noMultiLvlLbl val="0"/>
      </c:catAx>
      <c:valAx>
        <c:axId val="41008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85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5F0-8608-4268-8D60-099754EE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1EF-F3A9-48C7-8FC3-B199D19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30D7-A5E0-4A86-827A-1BC4C6EE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320-2925-4B4A-A08F-69026702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471-A49A-4C1D-8177-557DA652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1FD-45D7-4002-BE33-2B4D3BE0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831-C784-48F7-A414-CC844569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7F4-CB7D-4EDD-93E5-6E05A3C2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0DE-CDBC-4C19-B69C-EDC303B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784-14C0-43E9-89CD-7DFCAF5C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34D-7A4C-4046-A343-82FCD6BD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4B0-03C6-42CC-A7E9-A6787DF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03DD4-8278-4DA5-8F68-A6343EC89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