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18000"/>
        <c:axId val="79932811"/>
      </c:barChart>
      <c:catAx>
        <c:axId val="64918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32811"/>
        <c:crosses val="autoZero"/>
        <c:auto val="1"/>
        <c:lblAlgn val="ctr"/>
        <c:lblOffset val="100"/>
        <c:noMultiLvlLbl val="0"/>
      </c:catAx>
      <c:valAx>
        <c:axId val="79932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18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B6F-575B-42D0-B9DB-2E7E1AED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10B-7FA2-4D99-8895-19C2C024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602-82DB-40C6-9866-A3930B92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341-DB05-4AFA-8636-0DE04B96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A86-12F2-45B2-B15C-23D9CF61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F47-D9A3-4B94-A0C5-721FE354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569-5762-4235-AC71-CFA94ABA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F49-3FC1-4D7E-AA4C-F2D58620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4C5-77A6-4DA6-9BF2-923801DD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7F6-CD35-4B88-A8D7-E48D5F81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3E6-3236-4206-AB18-837E99A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DC9-E67B-4E3D-9276-510DDE35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8143F-C0E3-437D-AEEF-2A41168085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