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01435"/>
        <c:axId val="75469798"/>
      </c:barChart>
      <c:catAx>
        <c:axId val="15901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9798"/>
        <c:crosses val="autoZero"/>
        <c:auto val="1"/>
        <c:lblAlgn val="ctr"/>
        <c:lblOffset val="100"/>
        <c:noMultiLvlLbl val="0"/>
      </c:catAx>
      <c:valAx>
        <c:axId val="7546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01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03E-5D2A-4628-87E1-711FE6E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699-9682-4C1E-88EE-333EF4CC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E2A-5CFE-42A9-9358-6877858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C73-3E7A-4CCF-B4B0-3C632797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ABB-C866-4DF9-BB51-8BC937C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FE5-8D51-4DBC-BF1F-3BF39CB4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405-9047-4F46-8E99-A3597E48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E66-BC6E-4671-BADC-D4AC335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965-3D9E-41DA-B1D3-3E27A56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D7B-7096-456E-8534-0320C1B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484-C8BE-4DFB-822B-9B39EA8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235-163C-47DC-8829-763FF9C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4959B-33E4-41CB-ACE6-B33F31207B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