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49145"/>
        <c:axId val="57178563"/>
      </c:barChart>
      <c:catAx>
        <c:axId val="74349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78563"/>
        <c:crosses val="autoZero"/>
        <c:auto val="1"/>
        <c:lblAlgn val="ctr"/>
        <c:lblOffset val="100"/>
        <c:noMultiLvlLbl val="0"/>
      </c:catAx>
      <c:valAx>
        <c:axId val="57178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9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A6C-5E0F-428D-941F-2EE91200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898-D6C6-4072-942E-352D71B7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F98-1F3A-4306-8C20-E568900B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0B8-0D5A-4208-932F-E4C0B630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843-9B9F-4FCA-8266-EDCF6FAF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70B-2402-4161-B911-06951770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193-E5F1-4023-A321-4617C53E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74E-16D0-4282-B1C9-2DCCE135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E83-AAA6-4F2F-9004-5F525410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70C-33E7-4F4C-93F4-09094F4A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F18-E667-46E7-9BF0-D9D878FE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BAE-1DBF-4698-A588-6AA19962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86901-AAF2-4D87-BE85-1A425D2E2B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