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41140"/>
        <c:axId val="57144415"/>
      </c:barChart>
      <c:catAx>
        <c:axId val="35041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4415"/>
        <c:crosses val="autoZero"/>
        <c:auto val="1"/>
        <c:lblAlgn val="ctr"/>
        <c:lblOffset val="100"/>
        <c:noMultiLvlLbl val="0"/>
      </c:catAx>
      <c:valAx>
        <c:axId val="57144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41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652-4573-494B-B6FF-2C26E8A5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91F-683D-4EA2-B256-8C28427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1E1-1C94-4B51-8D09-1CE68869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F9A-FDD1-442B-B2F6-806891B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FA5-FE9E-4F5C-93AC-80BABDA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984-9D24-49DD-BAA0-978A4D5F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782-B669-4ADD-B448-49BF3733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559-301D-4A7C-9824-1FACBBF8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A152-DEE4-43DB-9A2C-AE2D6516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133-C76B-48D0-AAD2-7F22851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140-FCF9-4B3D-BB3E-4BB764E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AB0-5526-4109-BC46-543D812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9F0B1-4412-4B27-AB3B-AF78CA0A0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