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68242"/>
        <c:axId val="77781305"/>
      </c:barChart>
      <c:catAx>
        <c:axId val="90568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81305"/>
        <c:crosses val="autoZero"/>
        <c:auto val="1"/>
        <c:lblAlgn val="ctr"/>
        <c:lblOffset val="100"/>
        <c:noMultiLvlLbl val="0"/>
      </c:catAx>
      <c:valAx>
        <c:axId val="77781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68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CC5-9BCE-4AF3-BB8E-019B15DE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628-551C-4FB2-85AE-F13213F8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E15-EAF5-4354-A444-B69A1DF9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DA1-909E-4A34-A3B9-481DA851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3E2-E37F-4A42-A0C7-C92584C2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339-395A-4A24-A1BE-57AA6AD3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AC2-141B-475B-970B-58740F60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20C-77ED-4F4C-8D12-83B5E607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BC8-A423-4B68-8862-A44DCA7B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8DE-D2E4-481E-BCD2-26893E77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C9C-93EA-412B-A2CF-BB710D4C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723-1C4B-4DB6-8738-22118CCF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A1E4C-651C-43F5-B56C-585167B0D5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