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97874"/>
        <c:axId val="84662592"/>
      </c:barChart>
      <c:catAx>
        <c:axId val="8097874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4662592"/>
        <c:crosses val="autoZero"/>
        <c:auto val="1"/>
        <c:lblAlgn val="ctr"/>
        <c:lblOffset val="100"/>
        <c:noMultiLvlLbl val="0"/>
      </c:catAx>
      <c:valAx>
        <c:axId val="8466259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97874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C6513A-D60D-42B3-A099-1268898065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D50FB9-D024-4A11-B168-A1D47120F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553A5-C585-4A10-8CF8-C7EA29889D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879D3-CB91-483A-B170-99EFB35475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2B6A0-6500-4E1A-B8AE-52733CE38C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4BFEB6-76F8-4020-8305-443CE68656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38020-5EB7-44C9-9F66-993132D871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85BEE0-0ADB-4F9C-B3C3-302504C1CE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A354-1DE7-44B1-AE93-88F8F04117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CF9FC-A0FF-4D65-AEC5-6D0113236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8A584-FB11-4B72-AA1B-3D7489AC1A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AC883-D408-4D6E-BD3D-AC1DCBE8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08B1776-C739-41BD-A13A-5E7C036142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