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25271"/>
        <c:axId val="61360655"/>
      </c:barChart>
      <c:catAx>
        <c:axId val="66125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60655"/>
        <c:crosses val="autoZero"/>
        <c:auto val="1"/>
        <c:lblAlgn val="ctr"/>
        <c:lblOffset val="100"/>
        <c:noMultiLvlLbl val="0"/>
      </c:catAx>
      <c:valAx>
        <c:axId val="61360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25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5F9-7346-43E1-997B-0D1085C2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5B3-1798-4842-8B0C-03202EED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67F-7B33-4292-B5F0-F7E2C040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48D-A380-4BE8-AE9E-763DC180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580-F27A-4EAF-9261-C0CBAEF8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402-4C53-4EBD-9475-0CCA968D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363-DC99-46D4-9325-46C6CFFD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DAD-FD50-461B-9AE5-ADBAAC29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1AB-A2C4-4366-859E-84642D6B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E20-39E6-4C2C-9633-B860AB0C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FEA-D43B-4C2A-A96C-36F15CE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D06-171E-4055-AA55-C114A1F9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2376B-2B3C-44D1-B79F-C26988C944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