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28338"/>
        <c:axId val="42941275"/>
      </c:barChart>
      <c:catAx>
        <c:axId val="45928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41275"/>
        <c:crosses val="autoZero"/>
        <c:auto val="1"/>
        <c:lblAlgn val="ctr"/>
        <c:lblOffset val="100"/>
        <c:noMultiLvlLbl val="0"/>
      </c:catAx>
      <c:valAx>
        <c:axId val="42941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28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327-BA36-4E68-966D-7A357E1D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A8D-AF1B-4460-BF31-9DE820E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7E1-FDC0-4AA2-8AD6-1A2831BE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750-DE5E-4E35-9DC2-A1C49D3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E45-6B65-47CB-8A0D-E2396279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E99-A943-467C-908B-EE9FDFE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114-7562-4179-963F-702ECFEB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536-05C2-431C-9E0E-36D7ED9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18A-C45B-4E82-9D2A-470AD88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B3A-1B7C-49D4-9D37-13BDBA0F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E59-A1D8-4EB7-8B02-202630A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F7F-2A08-4C19-8D1A-85C31CC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458F5-3E36-4BDA-A087-30742AA1E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