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78848"/>
        <c:axId val="76031871"/>
      </c:barChart>
      <c:catAx>
        <c:axId val="79778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31871"/>
        <c:crosses val="autoZero"/>
        <c:auto val="1"/>
        <c:lblAlgn val="ctr"/>
        <c:lblOffset val="100"/>
        <c:noMultiLvlLbl val="0"/>
      </c:catAx>
      <c:valAx>
        <c:axId val="76031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78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400-6B0E-403F-BC28-AE0CB4D6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4A8-DC59-407B-83FB-F80BCB2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78A-ACF5-41CB-89D4-E28696A5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1E4-2225-4A7F-85CC-1932A561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C11-CCEF-4ED3-92AC-60CE88AE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C7C-1E0C-42A7-A3D8-379510CF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C55-78E3-4AA5-A003-41A57A2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455-DB1A-4825-9F24-3B276BE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8B6-6FEC-4D65-BB5E-955CEAA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B7D-3605-4E5C-A4FA-9CCE6DB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717-61F1-4D4F-A0D2-17E8ED1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407-6F91-4EC4-A2B4-003F829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83D6B-C436-4724-AB9F-3907B8978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