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16689"/>
        <c:axId val="70096436"/>
      </c:barChart>
      <c:catAx>
        <c:axId val="15816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96436"/>
        <c:crosses val="autoZero"/>
        <c:auto val="1"/>
        <c:lblAlgn val="ctr"/>
        <c:lblOffset val="100"/>
        <c:noMultiLvlLbl val="0"/>
      </c:catAx>
      <c:valAx>
        <c:axId val="700964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16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160-75B8-4B8C-B728-16EFB6CF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04D-96A3-40BB-99FF-CA451EDE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1CA-4CB2-4F07-AEC9-F9FB33AD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5C1-7A02-4FD0-97F6-5B0947AD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50F-B0E7-4AFF-8CCE-B6186606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EBD-4077-48A4-8DF0-B8D6251F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CCE-B376-412B-85BC-3C808175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7F9-7F97-4A18-81F2-8655B158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2D0-0A62-4156-8C2C-9F7A8159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3B1-1B57-4052-81B3-77DC8E58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486-E385-4223-87F5-0EE8272D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E56-1E41-4034-B136-408D6A57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F7474-26AC-456C-A124-50B99DEFA2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