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70969"/>
        <c:axId val="71224837"/>
      </c:barChart>
      <c:catAx>
        <c:axId val="27070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24837"/>
        <c:crosses val="autoZero"/>
        <c:auto val="1"/>
        <c:lblAlgn val="ctr"/>
        <c:lblOffset val="100"/>
        <c:noMultiLvlLbl val="0"/>
      </c:catAx>
      <c:valAx>
        <c:axId val="71224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70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6EF-CB07-4D5C-BFE6-8BF2C376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EBE-7C2C-479D-930D-85BE1CB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D5F-261D-42EE-99A0-B13DDCD4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FDF-8986-44EF-ABEC-4AE7CC4D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F26-7839-4A26-8473-778D752C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DD6-1ECB-448C-A1BB-4B775B3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714-684E-4C8C-B20D-7B33C1A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968-F783-4349-A7BA-ED778C3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032-A355-454A-B767-FBE8156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D4D-2E7C-4EDF-9292-F2720C62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E87-CC8E-4680-BC99-21484E9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180-7052-46DD-AC7E-DDFE850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FF3E-B27D-4B9E-9EC9-A624B2B1D4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