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08190"/>
        <c:axId val="76927002"/>
      </c:barChart>
      <c:catAx>
        <c:axId val="78908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27002"/>
        <c:crosses val="autoZero"/>
        <c:auto val="1"/>
        <c:lblAlgn val="ctr"/>
        <c:lblOffset val="100"/>
        <c:noMultiLvlLbl val="0"/>
      </c:catAx>
      <c:valAx>
        <c:axId val="76927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08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CB2-89DC-45B5-AABF-204B849B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374-FC92-4B2D-9C48-995F9338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B1E-63FC-40FA-876A-BEED1CB1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71F-BDDC-4A9E-912B-BF860D47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86C-738A-4B5A-A91C-AC5F8A4E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D59-5B85-4784-8C54-25F261D4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B73-B8F9-4800-AA4C-C52B04EF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109-5134-4979-B230-9BB9DBBB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E21-EEB8-444F-858E-0B4D35F8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51D-C33D-43AE-B694-F8129739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800-8DCB-45B3-BA38-6B85002C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4B2-E1E5-45BE-9774-4B8303BB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10915-6B7C-4582-B75F-8168B60D9F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