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898078"/>
        <c:axId val="91941065"/>
      </c:barChart>
      <c:catAx>
        <c:axId val="808980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941065"/>
        <c:crosses val="autoZero"/>
        <c:auto val="1"/>
        <c:lblAlgn val="ctr"/>
        <c:lblOffset val="100"/>
        <c:noMultiLvlLbl val="0"/>
      </c:catAx>
      <c:valAx>
        <c:axId val="919410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980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EDB9-1FB7-454E-8E2E-D91364BF4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5A58-2078-4F55-A0F1-00FD5DE6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779C-4109-47AE-9D51-0764E682A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C0EC-31E0-4DED-AEB5-AC97B37F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615D-B9A7-4FEE-8E05-BD896487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21E2-1CE3-4752-9C8C-B123441E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D81E-BC31-47A9-A706-433E9988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E356-FE1F-4C45-9ED3-8EA19C44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F064-D7B6-4576-A612-F94ABE5C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9898-6BEC-4607-8BD1-67B21B85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75BF-9C58-479F-87E7-9CD745E5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2F0B-2327-4420-8F69-36566E8B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39987-A69E-47FB-8FD8-686181022F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