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61739"/>
        <c:axId val="94011635"/>
      </c:barChart>
      <c:catAx>
        <c:axId val="53761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1635"/>
        <c:crosses val="autoZero"/>
        <c:auto val="1"/>
        <c:lblAlgn val="ctr"/>
        <c:lblOffset val="100"/>
        <c:noMultiLvlLbl val="0"/>
      </c:catAx>
      <c:valAx>
        <c:axId val="94011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1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DAB-C497-475B-9482-C785D88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02D-C93B-4391-84AD-7BB9C9B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6D5-7767-48F8-BF85-48A46128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FDC-5E53-4E64-BFBF-3D29D75F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58C-8939-4343-A7F4-AB771CB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70F-69D3-4C17-BBBC-77DE667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D87-7F84-404B-8AFE-948CDC78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EC2-2DC8-41E6-BBE0-85697A11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FCC-1501-437D-91E4-A765C25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E5B-641D-46B4-A326-8272E51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910-504E-4481-B26A-EDA48C6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781-CDC2-4794-92EE-6B3E83B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5C7CC-DE15-4196-A261-5534725F9D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