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10586"/>
        <c:axId val="45176235"/>
      </c:barChart>
      <c:catAx>
        <c:axId val="82810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76235"/>
        <c:crosses val="autoZero"/>
        <c:auto val="1"/>
        <c:lblAlgn val="ctr"/>
        <c:lblOffset val="100"/>
        <c:noMultiLvlLbl val="0"/>
      </c:catAx>
      <c:valAx>
        <c:axId val="45176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10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551-63EE-4053-885D-546B6024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610-7653-4A60-AFBF-FDB7A0D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ADB-8469-4BA2-B2EB-9D1A3EAD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D2C-588E-4065-AF36-2E770112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189-ED4F-4032-BC4E-EC4FA36F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603-F104-464C-8D8B-028B840B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A12-178B-40CC-8627-B748D06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861-044D-4C39-9E31-8CD8A28B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108-D60A-4316-B19C-8F8B300A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A2D-8674-4E37-B56F-5D36A3FB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F8E-3EAA-4961-8EDA-16A4586C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463-FC56-4083-A695-B62F30BA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4C4FC-A750-4EB2-864E-3A2FFD063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